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308-88DC-4612-BBEF-EEBB3266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E70-90B4-4924-B063-35E45D9D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CB7-FCE3-446B-8064-77CDBCDE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99AF-7F4C-4009-8826-674CF755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2246-C873-4A9D-9093-B61E3408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52D5-2089-4229-9794-0914E495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EAFD-A73B-4FCD-BE25-7BEE9607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7E84-BE06-4135-B56C-302320AA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3C50-EBDF-4478-BB62-F615D1C3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4A58-FCB5-4521-A14F-185A73F8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1A3A-0616-4FF7-9517-7739C0D1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646-038B-4EB6-A981-FBC91C26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EC71-1A4A-45A5-A976-97D60941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F147-F4EA-4525-82A4-A28B0BC5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D105-7228-49AF-8E4C-28E4FBF4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2A4F-82A7-4A7F-BB10-851FB83A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282B-B200-41D1-9919-8B5FBD95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7FE-97F7-452E-B96E-3882BBBC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6E8-B074-41C3-9B88-303B6063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E0D-E3A5-4085-AA0C-00C24BF1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3820-AB03-4CFE-BF04-E31EA6DE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8F9-9776-4B8D-A868-7A493E5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81FE-FE89-47AA-A23A-B927476F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7C2-845C-43D0-B229-C0C33037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51B1-63C5-4D12-B758-DFA0886772BD}" type="slidenum">
              <a:rPr b="0" lang="es-ES_tradnl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822c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606C-17EA-445E-B4DF-4C5BEB5FDB9D}" type="slidenum">
              <a:rPr b="0" lang="de-DE" sz="1400" spc="-1" strike="noStrike">
                <a:solidFill>
                  <a:srgbClr val="1822c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SESIÓN “BUENAS PRÁCTICAS EN LA ENSEÑANZA BILINGÜE”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Grande"/>
              </a:rPr>
              <a:t>CEP GRANAD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Grande"/>
              </a:rPr>
              <a:t>DICIEMBRE 2008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Has superado la fase administrativa/burocr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ática o aún necesitas ayuda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Conoces las actividades extraescolares realizadas por la secci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ón bilingüe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El profesorado de la secci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ón está implicado en su trabajo…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Le sacas partido a los asistentes ling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üísticos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Crees que lo que haces te sirve/servir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á a ti y a tu alumnado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OPINIONES PERSONAL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Grande"/>
              </a:rPr>
              <a:t>Varios de los encuestados/as insistieron en la necesidad que el profesorado de las secciones biling</a:t>
            </a:r>
            <a:r>
              <a:rPr b="0" lang="es-ES_tradnl" sz="3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ües, tiene con respecto al aprendizaje en el uso de las TIC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La gran mayoría demanda formación específica en sus propios centros.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Lucida Grande"/>
              </a:rPr>
              <a:t>Me interesa la formación práctica por encima de todo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S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É LO QUE ES EL…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Quiero por encima de todo que me proporcionen material espec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ífico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La opini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ón que tienen en su centro de la sección es…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Lucida Grande"/>
              </a:rPr>
              <a:t>Y SI ES NEGATIVA ES POR…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Crees que sabes los que est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ás haciendo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Lucida Grande"/>
              </a:rPr>
              <a:t>Creo que lo que necesito es…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Lucida Grande"/>
              </a:rPr>
              <a:t>¿Ha observado una mejor coordinaci</a:t>
            </a:r>
            <a:r>
              <a:rPr b="1" lang="es-ES_tradnl" sz="3200" spc="-1" strike="noStrike">
                <a:solidFill>
                  <a:srgbClr val="1822cd"/>
                </a:solidFill>
                <a:latin typeface="Lucida Grande"/>
                <a:ea typeface="ＭＳ Ｐゴシック"/>
              </a:rPr>
              <a:t>ón del Equipo Educativo de la sección?</a:t>
            </a:r>
            <a:endParaRPr b="1" lang="en-US" sz="3200" spc="-1" strike="noStrike">
              <a:solidFill>
                <a:srgbClr val="1822cd"/>
              </a:solidFill>
              <a:latin typeface="Lucida Grande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878120"/>
          <a:ext cx="8229600" cy="45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78120"/>
                    <a:ext cx="82296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9:33:28Z</dcterms:created>
  <dc:creator>Usuario de Office 2004 Test Drive</dc:creator>
  <dc:description/>
  <dc:language>en-US</dc:language>
  <cp:lastModifiedBy>Usuario de Office 2004 Test Drive</cp:lastModifiedBy>
  <dcterms:modified xsi:type="dcterms:W3CDTF">2009-01-12T20:39:17Z</dcterms:modified>
  <cp:revision>2</cp:revision>
  <dc:subject/>
  <dc:title>SESIÓN “BUENAS PRÁCTICAS EN LA ENSEÑANZA BILINGÜE”</dc:title>
</cp:coreProperties>
</file>